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586-5699-4DEB-BC08-7FCD4446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D2B-E2B9-45F7-A989-2B818973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230-CA00-4D21-B194-34658085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CEE-4CD3-4E18-AE70-1618676C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B86D-85A9-4786-BCE8-392F40F5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C159-3560-479E-A8FB-633C6E15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7678-8223-4F1B-B3CB-B684A248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8905-C8C1-4F23-A105-E926DAE8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95C0-B931-4739-8CE5-D8FC5473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C1D7-E613-4249-B68A-0672ECF4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0C65-4EEB-4CB0-B206-26518101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4A9-5D95-408A-B1FA-E54BEEBF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8CDC-5562-4951-A467-89BC954E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A330-02F5-4BEB-A55D-EC730DFA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74AF-5C8B-41D7-A170-123DFCC7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1493-63CD-48C5-94D4-F3FB3101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3F6E-7569-4D22-893F-20EC030B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8F4-BB2B-41D8-B8DC-C1647D58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C31-3DCA-4F8E-B150-99373580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E60-790D-4137-8617-1F19064D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F92-F365-4BDA-98DF-66453764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033-1999-448D-BB59-3505BF12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3A2-2DDC-41EB-8A89-304EED97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912-3617-4307-A726-CCC4521F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A2C2-E85E-4B47-8553-15891A32B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B40F-4801-4E2F-A9B2-D3022EDBF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Paco el Cha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03280" y="2421000"/>
            <a:ext cx="5832720" cy="3722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183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co el chato vivía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n un rancho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l cumplir seis años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co debía entrar a la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scuela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68360" y="328608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ra eso su papa lo llevó a la ciudad donde vivía su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buelita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4000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Al llegar a la escuela el primer dia de clases, su abuelita le dijo. A la salida me esperas en la puerta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5256000" cy="3860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co espero un rato después empezó a caminar y se perdió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8436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5107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Paco se asusto, empezó a llorar.Un policía le pregunto su nombre, su apellido y su direc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5600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8436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Paco no sabia ni su apellido</a:t>
            </a: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ni su dirección .</a:t>
            </a: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El policía llevo a paco a la estacion de radio</a:t>
            </a: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Para que avisaran que allí estaba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a abuelita de paco oyó el aviso y fue a buscarlo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90600" y="22525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co se alegro y prometió aprender su nombre y su dirección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90600" y="22525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01:57:03Z</dcterms:created>
  <dc:creator>Javier</dc:creator>
  <dc:description/>
  <dc:language>en-US</dc:language>
  <cp:lastModifiedBy>Javier</cp:lastModifiedBy>
  <dcterms:modified xsi:type="dcterms:W3CDTF">2007-09-14T02:52:11Z</dcterms:modified>
  <cp:revision>2</cp:revision>
  <dc:subject/>
  <dc:title>Paco el Chato</dc:title>
</cp:coreProperties>
</file>